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7C41-A67D-40D9-AAEF-D17277503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raditional architecture, not like PowerVR or Talis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resolution in the monster configuration is 2048x1536 with true color and 32-bit IEEE floating point depth buff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7EF-BD55-4EB9-AFD4-3F2E865B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FE3-760E-4D27-BE80-4542376A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1F7-AD8D-41F9-B6DB-1581CC83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4D9-72B5-4983-81E9-F646B336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6A82-90C5-4585-8151-C45763E1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6A91-194B-4AD0-A639-AD725961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96A-0F6A-45A5-AEFD-0D16D5B3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650-E858-41EB-8F4F-AE22528F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9C8-CA62-483F-B549-AF996B04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BC9-D29F-40C1-9B3D-B4108469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ED8-5421-4891-B5F0-65344694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A6A-5554-494A-AD98-5E62335B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Bitboys 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Glaze3D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Glaze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ri Nordl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Archit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boys O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pnord@bitboys.f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A4D6-094F-488F-B36D-49F4E0615BA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ixel pipel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905120" y="1523880"/>
          <a:ext cx="5448240" cy="448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544824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9E3-5382-4368-AF7D-80527CA988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y embedded DRAM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phics accelerator needs GB/s of memory bandwidth, to render at 600 MPIX/s at true color and 32-bit Z, 7.2 GB/s of memory bandwidth is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memory can no longer provide enough bandwidth for future graphics accel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-efficient - less chips on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d power con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ed size - we needed exactly 9 MB (= 72 M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ed organization in terms of bus width, ban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Infineon%20Logo4C%20tiff" descr=""/>
          <p:cNvPicPr/>
          <p:nvPr/>
        </p:nvPicPr>
        <p:blipFill>
          <a:blip r:embed="rId2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3634-235B-441D-AC8E-1760516EA34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2280"/>
            <a:ext cx="83059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 Black"/>
              </a:rPr>
              <a:t>Cell-concepts: Trench versus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46240" y="941400"/>
            <a:ext cx="1227240" cy="317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4383000" y="1852560"/>
          <a:ext cx="3141720" cy="4233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1852560"/>
                    <a:ext cx="314172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438280" y="3657600"/>
            <a:ext cx="495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0520" y="35053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i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3657600"/>
            <a:ext cx="53316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3657600"/>
            <a:ext cx="5335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1520" y="1219320"/>
            <a:ext cx="191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etitor’s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H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lock stacked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hard to add multi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evel metal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2320" y="1219320"/>
            <a:ext cx="460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fineon’s trench capacitor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ideally suited for adding multi-level metal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26668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2760" y="2514600"/>
            <a:ext cx="11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itline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L cont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236232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6600" y="28954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it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6960" y="22096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meta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620120" y="3048120"/>
            <a:ext cx="514080" cy="2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71640" y="449568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re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apac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4724280"/>
            <a:ext cx="174636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11160" y="35053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i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1600200"/>
            <a:ext cx="5097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724280"/>
            <a:ext cx="3505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trench technology combined with CMP (chemical mechanical polishing) techniques gives the advantage of being able to deposit the logic metallization onto a globally planar surf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Infineon%20Logo4C%20tiff" descr=""/>
          <p:cNvPicPr/>
          <p:nvPr/>
        </p:nvPicPr>
        <p:blipFill>
          <a:blip r:embed="rId5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52D-5895-45D3-9CDB-1437139D67F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mbedded DRA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2 Mbits (9 MB) of eD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0 MHz core/memory c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6 GB/s memory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12-bit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ided into four 18 Mbit modules of 3 banks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es framebuffer and Z buffer - enough for 1024x768x32 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de internal buses, need lots of metal layer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2362320"/>
          <a:ext cx="3809880" cy="292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362320"/>
                    <a:ext cx="38098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B933-4AB7-48D0-BC5F-4DDB24EFEB9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ultichip configura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 bus interface built into Glaze3D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 cost effective multi-chip 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or is a geometry proces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onster configuration is capable of 2400 MPIX/s, 10M triangles/s sustained -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8 gigatexels/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market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C desktop high-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cade sys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668680"/>
          <a:ext cx="3809880" cy="273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668680"/>
                    <a:ext cx="380988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91D-14E2-40EC-9871-103B5AD4306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iled rendering orde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 linear framebuffer in video memory but primitives rendered as tiles instead of scan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buffer is divided into tiles (16x16, 32x32, 64x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 is not sufficient - trashes texture cach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four chip configuration, one chip renders 1/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t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Glaze3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rendering chip ignores the primitive if it doesn’t fall into one of the tiles this chip ren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buffer split between the rendering chips - monster configuration has a 36 MB embedded F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D98-B126-491B-B2F4-71A7C3BD1AB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71080" y="1828800"/>
            <a:ext cx="170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83280" y="1828800"/>
            <a:ext cx="99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9D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45840" y="1828800"/>
            <a:ext cx="11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10DD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74720" y="1828800"/>
            <a:ext cx="11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10D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81520" y="2514600"/>
            <a:ext cx="125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feature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80440" y="2971800"/>
            <a:ext cx="161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1Mb block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0800" y="3429000"/>
            <a:ext cx="179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aw gate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429000"/>
            <a:ext cx="15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45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3429000"/>
            <a:ext cx="15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0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0380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20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4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3260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17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3224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38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0108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15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0108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30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81880" y="3809880"/>
            <a:ext cx="164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x. clock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0380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3260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5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24760" y="3429000"/>
            <a:ext cx="180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~115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0144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3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9360" y="4267080"/>
            <a:ext cx="107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us 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03800" y="42670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512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32960" y="4267080"/>
            <a:ext cx="81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24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01440" y="4267080"/>
            <a:ext cx="81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24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79720" y="4876920"/>
            <a:ext cx="173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ax. 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0380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2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3260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32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0108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37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80440" y="5334120"/>
            <a:ext cx="1614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emory / logic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on 150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03440" y="5334120"/>
            <a:ext cx="116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0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2.5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19640" y="5334120"/>
            <a:ext cx="977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4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5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01080" y="5334120"/>
            <a:ext cx="116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8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6.4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parameters for next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Infineon%20Logo4C%20tiff" descr=""/>
          <p:cNvPicPr/>
          <p:nvPr/>
        </p:nvPicPr>
        <p:blipFill>
          <a:blip r:embed="rId2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F0B-2EF0-4A17-91E7-2324C714E95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tu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mp more and more triangles through the pipe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: CPU - 3D-hardware interface,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metry processors, advanced geometry proce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pixels and tex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ct 8 gigatexels/s in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8 GB/s of memory bandwidth - embedded DRAM is the only solu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features per pi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ter texture filtering (anisotropic for 2D on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ability (procedural tex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istic materials and surface 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9A7-A1F9-4A8F-BE9F-CEF09A3C82F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66F-189D-4FC7-A86D-B1B43AEEA711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ze3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 new consumer-level 2D/3D-graphics accelerator c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lrate: 1200 million texels / seco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and developed by Bitboys Oy, a Finnish 3D-graphics hardware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Infineon Technologies’ 0.20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 eDRAM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 MB of embedded framebuffer memory, 128 MB (max) of external video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55E7-8429-4B40-BA6F-8027698097F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sign goa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itional, proven rendering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C’99, Microsoft Windows, Direct3D and OpenGL compat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-chip support, two- and four-chip configu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additional geometry processor, also in multi-chip configu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s full advantage of embedded D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and efficient rendering core required, embedded DRAM in Glaze3D takes most of the available silic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C69-E45C-4535-BD23-6E030AB57E9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d-pixel pipeline @ 150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0 million pixels / second (dual textur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00 million texels / 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5 million fully featured triangles / second (sustain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cle-accurate, bit-accurate simulator together with in-house developed PCIBuilder allows performance tuning with real-world applications (Quake III Arena, Viewper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7CB8-4246-4D63-B9C8-55889DF5682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ure cache: 16 KB cache for even mipmap levels and surface textures, 8 KB cache for odd mipmap levels and lightmaps. Both caches two-way set associa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coverage issue - 4-pixel horizontal blocks, expect 90% coverage with average-size triang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ke III arena - 200 FPS with all features on @ 800x600x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0 MPIX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0.000 drawn triangles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5 MB of textures / frame, 670 MB/s of texture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 complexity of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12F-B779-4AED-8C21-D931359CFC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eatur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simultaneous textures with trilinear filt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XTC texture com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-scene, order independent anti-alia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 bump ma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DI+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scaled transparent video overl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gital flat-panel and TV-out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DDE-DFB7-40D2-B73B-EE7DB78DBD2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Glaze3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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hi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4 pin B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5M logic g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0 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e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SDR SDRAM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 and/or color buffer stored here in higher resol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 128 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4- or 128-bit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CI and 2X/4X AGP interfaces: AGP interface supports direct AGP textu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DE7-E315-479B-8919-F17429657FD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10280" y="3049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3808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aze3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371600" y="1219320"/>
          <a:ext cx="6515280" cy="48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219320"/>
                    <a:ext cx="6515280" cy="48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4D1-1762-4BBB-8F5A-D4027D80F3D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riangle setup eng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362320" y="1676520"/>
          <a:ext cx="4419360" cy="429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676520"/>
                    <a:ext cx="44193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74D-B0AF-45DF-A0D0-BFF2C007895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5T15:57:30Z</dcterms:created>
  <dc:creator>Petri Nordlund</dc:creator>
  <dc:description/>
  <dc:language>en-US</dc:language>
  <cp:lastModifiedBy>Petri Nordlund</cp:lastModifiedBy>
  <cp:lastPrinted>1999-05-31T07:55:05Z</cp:lastPrinted>
  <dcterms:modified xsi:type="dcterms:W3CDTF">1999-07-11T14:59:00Z</dcterms:modified>
  <cp:revision>214</cp:revision>
  <dc:subject/>
  <dc:title>No Slide Title</dc:title>
</cp:coreProperties>
</file>